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42D4-9ACF-4A3D-A64F-D71928BC5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48932-DB79-4D80-8173-6E24DA95B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101B-5AC5-4890-9E59-F00FDFF3A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9CA9-1C31-41BC-8437-853F30A955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CF0E-AC66-416D-891D-32BDD2A8FF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1D84-3337-4683-A5D4-ABCE4C5C3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567C-A029-42C1-AEF3-3B9257891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86CE-CABE-4822-870A-33294006F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7CD3-87B6-4047-8C38-3AC0379DC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C7A7-255C-45B6-973C-FD1CB19A6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166D-B643-4FB1-8558-1377B815E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61FD-A4C3-4EE4-9CBE-135CF3380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736B0F1-659A-4933-8D64-619AE428F6F0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3316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Tabla del 6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96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Extendida con deci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 X 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 X 6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2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0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 X 6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00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X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0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 X 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 X 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 X 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X 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0 X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0,0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1 X 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006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6 X 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0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6 X 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3-19T12:13:11Z</dcterms:modified>
  <cp:revision>1</cp:revision>
  <dc:subject/>
  <dc:title/>
</cp:coreProperties>
</file>